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C420-5E66-45D2-A001-FE9FB4E86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E8A2-A29E-4A07-A3C8-D5FFBD3D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5C9328-0660-4713-8B52-02EF548F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3699BB-AEFA-4931-8173-B6266B2E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FC4104-EEDA-4C9D-9D78-233DA40F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9DEC7E-E169-4725-B88D-D8A97CB2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9F678-634D-4257-95FC-DF08FCAD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FD3EAC-A986-4BCF-9DE2-3144D226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8C08F0-C4B7-4F9C-911F-0026500D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6F3873-CEB8-4DB6-8837-EED6C90B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C8508-B37A-4A55-9D16-1D9B6D84E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07DC2-CE3F-438F-9E0C-FE54D90FC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7BB5-67A9-48F3-A48D-D1C3CCB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09CC-F679-4AF9-94C3-820C3491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6300-C402-4BF5-B88F-9E60D0D1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F3CF7-FAE1-4B8B-9286-30446BC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D644C-4AC7-4D1D-91CC-DCBF693B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A82B1-7707-494A-8AD9-C560189D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D1281-2517-4052-A4F5-CF64F4A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8B26-DB30-4A1B-A9CD-A8A40D0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BF475-237D-4315-BB00-62807970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1CE99-6402-4D5D-9E20-ECD8A72D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7490E-095B-403F-89B4-4833A71C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E095-D069-4359-88AE-485C0C4D0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BA344-56EE-41B6-B341-C3C0BACF4F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4EDAB-08B9-4DA1-BD1B-CC48F3BEEE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7228B-3140-4BD1-9CD1-443A0C45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84194-BB49-49B8-B158-EA0B3D9D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C9F23-BC5C-4A3E-9FCA-9DF220B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92DAD9-D3C9-4626-924F-278DDD82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BC751A-8D19-4E7E-B922-C0DE73C9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2F2EAC-62F1-42C5-9E01-853DCBE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71D704-ED25-46DF-A810-A6497BB2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05446-A060-4CBB-A573-B05CE0E7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60F6A-5782-4DD3-9458-4404F41E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FA340E-F032-4CEA-BE56-DF68B09B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18EB89-6A37-4ECD-85B0-2F0AF26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0E332-795C-4BBD-B3D9-B30B13493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8BFE4-E6CC-4186-AECB-69239C995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00536-57EF-45B8-AD93-FB2DC11A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1CFEF-8591-4B38-B2EB-37E21FA6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B4CBE-5341-4803-9A18-B57B47A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B3AB3-894D-4E09-91EF-4FD26A0A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B764B-06AF-4867-9D1D-D141AC14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3A87B-FD36-4522-BF21-F0AE13B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AF90B-E2C4-42C8-B09E-CDA8D8D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AF890-DE2B-4387-BE80-0E28E1E6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98D46-DD74-4FEA-8FF6-81EA881B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475BC-7829-49BF-B691-8A00F52C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DA94C-D621-4FBC-B058-DE82C55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52D21-D985-4F7C-A4DC-A3FFEAD54F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115A0-CFD1-4CC6-9451-A78487A27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FC978-42D9-442C-AB74-EC572EFB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0CCD3-E5BB-4813-8EE6-ED528C6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1538E-18CE-4591-BF99-0918586C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611DA-631B-4B2B-9E64-D0BDD185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F330C-BD77-4EBC-BC70-F0959BE6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5B8ED-A124-46E5-8982-5543C12F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6CB54-0258-4CA8-89C3-54B4E26F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BD15B-02B5-4EF5-822D-9A69B53A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0DD47-C40C-497F-8F4F-5CF4585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FDEC3-70A2-4C58-B272-51CA15DB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FAA7-DBA8-4F80-90A0-907B48A1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7620F-B9C5-4612-94E0-01C54F310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FF6EE-ECF2-4517-8A0B-217110B7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4B1FE-A141-448A-92A4-C7632B63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CF707-29F8-48DF-AEDD-467E8568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19352-7D7B-4073-B726-C3BA8B6C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197EC-C62E-4A89-8B39-9A81A6CD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2813-677E-4C29-90C9-0B18CD8A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19F36-C745-437C-9F38-480FD604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0CFF0-4B7D-4C33-8F4F-0CB03A17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797A8-C4FB-4BE4-9C45-A99A745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CA59A-A620-40AF-AE48-A15D2182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ECF40-F9E7-433D-980C-56F2A68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90E3-1651-4890-830C-DBD48FC9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8B6F4-2F46-4986-B938-6A6EE73C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1B64A-9E1B-4A5B-A787-DE0BC064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B6244-1525-458A-9266-7C0024A1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F722C-51B2-4CC4-9AC5-DF4C2937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2189B-0F42-44AE-9D5B-837ABEB5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06ADC-4669-4A09-903F-AA7B548F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C803E-9A0A-45CC-AB7A-987C01C4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ACBCA-64E0-4BA5-B993-A349CDF2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AB61C-FFD0-40C3-82D8-7661F1C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DDF84-6EDD-4FCC-B4E2-7A44143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5144F-86A1-46E3-949F-DFD08C6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A3526-03BA-4DF6-AD67-48843C8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79F41-F788-45FA-AEAC-B410A196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610C8-3E5A-483F-B6E1-063C2CDF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254B8-7C2F-42FB-82BF-80F2BEB4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2F51F-9444-4B2C-B43E-E95EE119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A5943-E0FC-4A7F-8C42-6CBE2AD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D0945-D072-47B5-B345-B39E39C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91391-367F-48F4-BC9A-0C1D742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6F4A9-C78D-42E1-B282-4FA9F120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02720-A579-463A-A59C-E7CC19CB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430AD-A3EC-4173-905E-56372BF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28378-BC15-4DA0-BA51-D60384C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D9316-9C50-438F-BCD9-DBA6E742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A6422-8F10-4CFD-8866-4A1B014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F3124-CF4D-418D-86BF-C693971C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FA28F-C4F2-4520-939A-E0B66407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F31CB-DF26-4084-B771-DB9BEDAA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84D2C-983C-4B34-90D0-34F8F960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81EBB-E7AF-48C4-B3BC-44FC75D1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EDF04-55B3-498A-A7A7-AA20DBE0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64799-4B36-4B46-9C50-BD6135E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662A2-1D14-4F17-A6E2-4F327F2D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31B9E-B1C7-4627-A3D1-5953B76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11076-281A-4E60-A227-EBF4C0C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EFE4-DEB4-4BAA-AE2E-666049A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7F472-E8C2-487A-A827-33ED74EF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DAF93-9B9A-4222-AC1C-66F86D0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01193-BE5E-4A18-B1D2-544733A6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976BD-D789-467E-B6F6-E1F1817B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2B7B5-B71C-4CDC-B564-1095C284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2A7BA-CB1E-437B-997E-5E4CAEC1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43785-3C15-4A49-B8A7-BB160E6B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7646D-D1EC-4213-9A67-20B2069C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800A2-9552-43B1-8436-D2F5BA7E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8D591-D807-4F7A-9360-2C45C71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AA863-CC8B-4C71-ABA6-0CC2C90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5A8AB-1C30-47DD-AD68-75C623F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F7B80-FF97-48C7-8AE6-51DC67E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FDA16-88CD-4B39-B027-719C6D6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CB42B-CB65-4AC4-A512-C46AFB4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44717-E0EC-48D7-9550-730E4CF4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D2169-17FE-4297-B8B5-2D4AADC3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55661-E1E0-4410-AA65-A4E45851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B8F2A-59B0-4D5F-9289-D964149F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FC346-9266-4227-B533-3777411B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DA853-441F-4B7E-9514-2255CF5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32FB7-8CE4-4972-8B9C-E19A576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520F-971C-42BE-AA61-A4D00648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EC06B-69EA-449E-94A1-BC8E7D1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A3336-64E2-4929-B3E1-FE907BDC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D7655-9742-468E-B6CF-8F358BD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8CB66-A64A-486C-A935-563B7864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1E776-1CF2-48F4-A9EF-9AF1179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232E6-89FB-44A1-80E9-9BE3E49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215B2-3446-4B9D-B378-8C55658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A81D2-13B2-460F-9508-65E22745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5F289-82B9-4B89-9E8E-51B89546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1F723-7B84-46AA-BD54-E8647DC2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E35F5-8549-4E9E-A1A9-65187402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DD4AF-9AE1-4BA2-A4E1-77ADB242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83DCE-A13C-4887-ADB3-0B91AB0F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50BD9-6257-44EC-8DFB-B940F6D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C8E6AF-D112-4245-A817-AC35500E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71794-88D1-4B67-9F25-0852155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31539-F693-4CD4-B79A-5D87C386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49C2F-180F-410B-997F-EBA9058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CE36B-8959-4496-87AE-46E9BBF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A2F83-037A-4E75-9050-C6CDC23D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34FEC-FAF6-4C49-B0C8-6B37461F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A1AF-0057-49E1-BCAF-384C50C6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917E2-B771-4C09-A190-F2DFA7F6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BDEF7-6135-4CC9-94F4-8CD73966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1FEC4-425D-41C1-BD38-AB8E46E3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ED097-3E29-4460-BFB0-1EA82C30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6BF8C-CBA4-4CB0-81A6-8C3AA55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C65DB-3063-4CB6-AE8A-427F1A22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5FEA3-8D21-4F15-8645-D249E690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0C26C-5551-4A79-BA34-644A6F72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C74A6-8E5A-4F14-B334-04EC11B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00A89-66F0-4573-BC65-BBB8D11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F83FB-7120-4002-99F0-62A0D0609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EE17B-D18C-4B55-9685-603AB600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2497B-FAD6-4852-AF09-B0E6BE2A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0B79A-2B22-43AA-BCDF-AAA9380B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7F210-9EEB-44BC-B7AD-336FFB95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BD852-DDB4-429E-AC9B-1F602CDD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A0E0C-9A8C-4654-9086-44A8278E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53ECC-33AD-453A-8316-093B1C89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1380D-5F6E-4160-A56D-2C1E5601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02D94-1FB9-43CA-BA3F-D6AF911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4A44E-9619-4986-90E0-914A220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DECE8-59AF-40BC-A21D-B54F788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5639E-613D-4A39-896C-D31F1DD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F178F-BCAD-423E-865C-4529B663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82A34-2D13-4124-A04C-4A30298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110BD-20EB-4D25-91DF-5F9DF6D3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37D06-96CD-439C-9CAC-1F84FDEE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DEDCF-5BEC-48B6-9B93-F3A8F12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3DD24-207E-4979-8DF1-9B2BF9B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F4BFF-811C-4540-AA86-08EFDD34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6D95A-F948-4771-BA99-2FBC5BA8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81F7E-3E3F-47F2-8600-2778716A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07394-5A9A-4B6A-ABC3-995604E5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3C6B2-B225-4659-BC70-239C517F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28A66-CB5D-4275-B208-9730739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52F1E-4687-4D00-9D1F-03B9806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B4AC7-2013-4A0A-8FEF-75F87555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3B5F4-EE10-4DF3-A569-4C9048C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755B4-241A-47D6-8D94-A2FA31C6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91E2B-C407-4394-8B64-7F42C15B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2476A-F019-4094-BA6C-FAC847E5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2B2D5-7CD5-4A68-ABC1-38987DC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FBBA3-5FF7-4CEB-8627-F5D1ABE1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9EF79-84F0-4981-9A50-542EC45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31B12-95A2-4F4F-AB70-6A99B6DB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35555-50FC-4CB0-9DA0-1528DE09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5858C-997E-4EFC-A45D-4C2F296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1429A-F54C-4BA6-9172-75EFE99A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AD234-60EE-4315-A210-6432907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18E80-1172-4A8D-82F2-651EFBB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A4535-202A-43C7-9BCB-CA4F4D2D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14B7D-3D5D-4FEA-82D2-B2DFBBF0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57D01-4780-457A-A2EA-D13AF9D4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92E5F-8B1D-4467-A001-B9F4A29F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D6B2-1A02-42AE-B2D9-F483B143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C15B5-D524-4BA6-916F-03682893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22B6B-2578-4997-9CDD-5360C488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BA454-7C71-484E-92CC-3928A53D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33AB8-0F3D-4F6D-AEFD-0CDBB24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70DD2-5951-41F5-84EF-C7E43E2B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6F90C-916F-4263-94AA-09697226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57533-C3F2-4EAF-99F6-11CE0618D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F5F0-1A6C-4A7F-92C4-79F232271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8D2D-4818-4BA8-84B8-52436EE4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26A2-AE5A-4470-A760-93B379C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EBF1-E39C-40BE-8181-1A5AEA19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0EFD-14AF-4416-AA12-77725C0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7B0C-0840-4676-94C5-DC15553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6C64-D4EB-478E-B81E-D3F98130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BF9E-4254-491B-AA62-620E3F2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4E48-7591-466F-9BA8-3589AB07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4DC5-064C-4339-A076-6C4EBD19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360F-F1E5-4C35-8DFD-66681E5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7B33-0F9B-4E79-8FF2-819B477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FCC2-DA59-4AA8-9F2A-C4631948A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ECA29-7FF6-4E36-B483-C2F0A624B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EE99-4606-42E7-8D11-78F5487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0913F-D759-4F6A-89D8-2E4BFE4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02AC0-6408-4664-8789-D52DCFA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5F6CD-E306-492B-97BA-F74E3C3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81DB5-5D2A-41A1-B26F-59045F11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6A45C-57A3-4EA6-BF49-24A8628D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7B517-4850-46FA-8076-7D960A93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2C936-3A5B-42F7-BEA1-1F7A4A21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957C7-1086-40B8-890D-0934CA8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351AB-A00E-43AB-A8F8-8E1F46E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73AB6-ACFA-457D-8263-CC79D9C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9309-3841-46B9-ADED-C3DA74B0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C5FA4-BC2E-44F7-8B77-1829CBAED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F9407-52F2-4700-9B25-A1F15835A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D9FDF3-C9D8-432C-98CF-D9AD513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5248CA-CB02-46B4-B4F4-B651302D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B4B395-51EE-446D-8FEA-8F7844D2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E88397-ECE9-43E1-98A3-C9364FF3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768CB-A60B-4EC9-B9B0-439ECB3B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B2988-03B4-4D1F-AB9E-0DDA155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DEA210-3218-4531-9B2C-66612400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58993A-1E86-4935-9AF4-31D5E051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3EA9-F5ED-474C-8AE8-B3B4B2CC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9C1B7-6FD5-440B-B110-C2D0618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60297-E0E1-45F7-BC51-97EACD19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85ABE-74C4-43A0-8797-61B9FAED20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2FEC-B45B-406D-A573-6DF083507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5A68-9D2E-4D34-8339-F14BD478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1A68-6AC8-4B5D-959E-846E0AAF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AA091-0FF3-4C42-8C18-C3E990DF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691A9-8D84-43D1-8E48-B8436F31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9D27-FFDB-4C15-BF64-99849FD4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1445-EBE1-4909-BF9E-DD7A741E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41E0-3590-4117-8070-75939FE0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83C7-CE8A-427B-8172-2631ED3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8E99-B759-495B-B433-E4566238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9B66-CE8A-4AE8-BF99-0B6643FB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25C5-3A31-41EC-B13D-4FABC31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4DEF-8982-42F7-81B7-BA9215EDE7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8ADB1-C50A-45CB-A71C-BE9DE1517D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DE55B-AE95-49C4-A95A-9FD16BCD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00971-7168-48AC-842C-B602ADA7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431A2-851C-4515-9CA0-DD8C006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8A671-DC0A-46FA-B7F3-CC7B268B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16A2-F416-40B9-8B29-BF678E20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393D3-1F16-4FEA-B641-F50A4511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BB7D5-1313-4DDB-A7E2-2D3C1B45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8E5BA-E924-4A3B-B77C-B9C9FC63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7AE93-FFD1-4C14-875D-33E0A8D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08008-14B0-4DD1-A70F-94F1C59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35756-E83C-45FA-9979-2B1C0D2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18AE6-CF9A-4EB2-AA69-669870F0C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650F89-F03A-4140-B563-E5C25CB129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4C97F-520C-4C83-9A37-CE81EAC3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1ADD0B-D184-45CE-808D-9384806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10AA-109F-4BD7-9AE7-9D23AB59D0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1A4C-93D2-409F-AA6C-BF84E55853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850E-7585-4C02-91B8-790F2A954E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9FC-5F7A-4F3B-B60B-B48BBD45C6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967E-7B0C-4497-B0EE-CB92605514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234-B04B-44EF-A3FB-C3B265EDAD87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846-EBB3-459B-9D64-94E9CD955EC7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1677-8434-402F-B9A5-89F6A6CEF3D8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0D59-A5DA-40EE-A0A3-69C45D6E36A2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45EA-A842-4FDB-8A7D-EE864653BD3B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7C53-866E-4231-9D5E-05A5826C93C3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3B0-48E6-4FF8-BD48-005A9F7FB061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1D2-AD22-4BC6-A4A7-3C395BAD2839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9E64-1447-451D-94F9-ACC7B9036A48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D88-B2DF-4D83-937F-87D994B6E531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B8B0-42EA-4F61-A7F8-6575DB58820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AF8-2787-40A5-96C5-099FE7D881D6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3DE6-2E3B-4C7F-BE92-FB8EA38BF43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6AAB-10DB-437C-91D0-74325B7400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CE1A-4231-4B51-8DBC-FA4C716303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53E2-B195-4153-A6C6-4322965D32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DB5-DC46-4699-8398-886D7BCBC7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4064-D30C-4187-A2FA-2E96C91BFA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AC98-D537-4165-9200-E544441E65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590920" y="279576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连 加、连 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水果店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箱苹果，第一天卖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箱，第二天卖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箱，还剩多少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73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673360" y="3222720"/>
            <a:ext cx="4311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0-22-25=3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还剩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2925720" cy="525600"/>
            <a:chOff x="0" y="101520"/>
            <a:chExt cx="2925720" cy="525600"/>
          </a:xfrm>
        </p:grpSpPr>
        <p:pic>
          <p:nvPicPr>
            <p:cNvPr id="99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32840" y="101520"/>
              <a:ext cx="2792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386640" cy="273960"/>
              <a:chOff x="0" y="196560"/>
              <a:chExt cx="386640" cy="27396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32920" y="363960"/>
                <a:ext cx="97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160" y="335160"/>
                <a:ext cx="204480" cy="12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32920" y="239400"/>
                <a:ext cx="97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160" y="212400"/>
                <a:ext cx="204480" cy="12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280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184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716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392040" y="10526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算我最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041560" y="1735200"/>
            <a:ext cx="22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5537160" y="1752480"/>
            <a:ext cx="2490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2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1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620720" y="2568600"/>
            <a:ext cx="2697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5330880" y="2576520"/>
            <a:ext cx="280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0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30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1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2106720" y="2286000"/>
            <a:ext cx="838080" cy="360"/>
            <a:chOff x="2106720" y="2286000"/>
            <a:chExt cx="838080" cy="360"/>
          </a:xfrm>
        </p:grpSpPr>
        <p:sp>
          <p:nvSpPr>
            <p:cNvPr id="1016" name="Line 7"/>
            <p:cNvSpPr/>
            <p:nvPr/>
          </p:nvSpPr>
          <p:spPr>
            <a:xfrm>
              <a:off x="2106720" y="2286000"/>
              <a:ext cx="8380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 txBox="1"/>
            <p:nvPr/>
          </p:nvSpPr>
          <p:spPr>
            <a:xfrm>
              <a:off x="2106720" y="22860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Text Box 8"/>
          <p:cNvSpPr/>
          <p:nvPr/>
        </p:nvSpPr>
        <p:spPr>
          <a:xfrm>
            <a:off x="2309760" y="225252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"/>
          <p:cNvSpPr/>
          <p:nvPr/>
        </p:nvSpPr>
        <p:spPr>
          <a:xfrm>
            <a:off x="3824280" y="173988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7607520" y="174312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5"/>
          <p:cNvSpPr/>
          <p:nvPr/>
        </p:nvSpPr>
        <p:spPr>
          <a:xfrm>
            <a:off x="3816000" y="25671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7821720" y="256860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5641920" y="2284560"/>
            <a:ext cx="858960" cy="1440"/>
            <a:chOff x="5641920" y="2284560"/>
            <a:chExt cx="858960" cy="1440"/>
          </a:xfrm>
        </p:grpSpPr>
        <p:sp>
          <p:nvSpPr>
            <p:cNvPr id="1024" name="Line 7"/>
            <p:cNvSpPr/>
            <p:nvPr/>
          </p:nvSpPr>
          <p:spPr>
            <a:xfrm flipV="1">
              <a:off x="5641920" y="2284560"/>
              <a:ext cx="858960" cy="14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 rot="10800000">
              <a:off x="5641920" y="2284560"/>
              <a:ext cx="858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8"/>
          <p:cNvSpPr/>
          <p:nvPr/>
        </p:nvSpPr>
        <p:spPr>
          <a:xfrm>
            <a:off x="5957640" y="225252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700280" y="3125880"/>
            <a:ext cx="1228680" cy="15840"/>
            <a:chOff x="1700280" y="3125880"/>
            <a:chExt cx="1228680" cy="15840"/>
          </a:xfrm>
        </p:grpSpPr>
        <p:sp>
          <p:nvSpPr>
            <p:cNvPr id="1028" name="Line 7"/>
            <p:cNvSpPr/>
            <p:nvPr/>
          </p:nvSpPr>
          <p:spPr>
            <a:xfrm>
              <a:off x="1700280" y="3125880"/>
              <a:ext cx="1228680" cy="15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 txBox="1"/>
            <p:nvPr/>
          </p:nvSpPr>
          <p:spPr>
            <a:xfrm>
              <a:off x="1700280" y="3125880"/>
              <a:ext cx="122868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Text Box 8"/>
          <p:cNvSpPr/>
          <p:nvPr/>
        </p:nvSpPr>
        <p:spPr>
          <a:xfrm>
            <a:off x="1985760" y="309240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5457960" y="3125880"/>
            <a:ext cx="1185840" cy="15840"/>
            <a:chOff x="5457960" y="3125880"/>
            <a:chExt cx="1185840" cy="15840"/>
          </a:xfrm>
        </p:grpSpPr>
        <p:sp>
          <p:nvSpPr>
            <p:cNvPr id="1032" name="Line 7"/>
            <p:cNvSpPr/>
            <p:nvPr/>
          </p:nvSpPr>
          <p:spPr>
            <a:xfrm>
              <a:off x="5457960" y="3125880"/>
              <a:ext cx="1185840" cy="15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5457960" y="3125880"/>
              <a:ext cx="118584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8"/>
          <p:cNvSpPr/>
          <p:nvPr/>
        </p:nvSpPr>
        <p:spPr>
          <a:xfrm>
            <a:off x="5743440" y="309240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79"/>
          <p:cNvSpPr/>
          <p:nvPr/>
        </p:nvSpPr>
        <p:spPr>
          <a:xfrm>
            <a:off x="18720" y="47941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"/>
          <p:cNvSpPr/>
          <p:nvPr/>
        </p:nvSpPr>
        <p:spPr>
          <a:xfrm>
            <a:off x="392040" y="3927600"/>
            <a:ext cx="72867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我们将集中研究三个数的加减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加、连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组合 2"/>
          <p:cNvGrpSpPr/>
          <p:nvPr/>
        </p:nvGrpSpPr>
        <p:grpSpPr>
          <a:xfrm>
            <a:off x="15840" y="101520"/>
            <a:ext cx="2835360" cy="525600"/>
            <a:chOff x="15840" y="101520"/>
            <a:chExt cx="2835360" cy="525600"/>
          </a:xfrm>
        </p:grpSpPr>
        <p:pic>
          <p:nvPicPr>
            <p:cNvPr id="1038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43640" y="101520"/>
              <a:ext cx="270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9" name="组合 4"/>
            <p:cNvGrpSpPr/>
            <p:nvPr/>
          </p:nvGrpSpPr>
          <p:grpSpPr>
            <a:xfrm>
              <a:off x="15840" y="196560"/>
              <a:ext cx="374400" cy="273960"/>
              <a:chOff x="15840" y="196560"/>
              <a:chExt cx="374400" cy="273960"/>
            </a:xfrm>
          </p:grpSpPr>
          <p:sp>
            <p:nvSpPr>
              <p:cNvPr id="1040" name="椭圆 1"/>
              <p:cNvSpPr/>
              <p:nvPr/>
            </p:nvSpPr>
            <p:spPr>
              <a:xfrm rot="16200000">
                <a:off x="246600" y="36504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1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920" y="338760"/>
                <a:ext cx="202320" cy="12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2" name="椭圆 29"/>
              <p:cNvSpPr/>
              <p:nvPr/>
            </p:nvSpPr>
            <p:spPr>
              <a:xfrm rot="16200000">
                <a:off x="246600" y="24120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3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87920" y="212760"/>
                <a:ext cx="20232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40" y="35676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40" y="32508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40" y="22788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40" y="19656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2459160" y="38671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3667320" y="3425760"/>
            <a:ext cx="80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算第一组、第二组一共摘的南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2506680" y="4329000"/>
            <a:ext cx="185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加上第三组摘的南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0"/>
          <p:cNvSpPr/>
          <p:nvPr/>
        </p:nvSpPr>
        <p:spPr>
          <a:xfrm>
            <a:off x="2460600" y="474804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21"/>
          <p:cNvSpPr/>
          <p:nvPr/>
        </p:nvSpPr>
        <p:spPr>
          <a:xfrm>
            <a:off x="3672720" y="3868560"/>
            <a:ext cx="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2"/>
          <p:cNvSpPr/>
          <p:nvPr/>
        </p:nvSpPr>
        <p:spPr>
          <a:xfrm>
            <a:off x="3671280" y="4746600"/>
            <a:ext cx="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8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23"/>
          <p:cNvSpPr/>
          <p:nvPr/>
        </p:nvSpPr>
        <p:spPr>
          <a:xfrm>
            <a:off x="3077280" y="519264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答：一共摘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南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0"/>
          <p:cNvSpPr/>
          <p:nvPr/>
        </p:nvSpPr>
        <p:spPr>
          <a:xfrm>
            <a:off x="5380200" y="4238640"/>
            <a:ext cx="3024000" cy="641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29"/>
          <p:cNvSpPr/>
          <p:nvPr/>
        </p:nvSpPr>
        <p:spPr>
          <a:xfrm>
            <a:off x="5634000" y="1560600"/>
            <a:ext cx="1909800" cy="496440"/>
          </a:xfrm>
          <a:prstGeom prst="wedgeRoundRectCallout">
            <a:avLst>
              <a:gd name="adj1" fmla="val 59796"/>
              <a:gd name="adj2" fmla="val 3478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式怎么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28"/>
          <p:cNvSpPr/>
          <p:nvPr/>
        </p:nvSpPr>
        <p:spPr>
          <a:xfrm>
            <a:off x="5796000" y="2422440"/>
            <a:ext cx="1730160" cy="891000"/>
          </a:xfrm>
          <a:prstGeom prst="wedgeRoundRectCallout">
            <a:avLst>
              <a:gd name="adj1" fmla="val 62273"/>
              <a:gd name="adj2" fmla="val -24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列出综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36"/>
          <p:cNvSpPr/>
          <p:nvPr/>
        </p:nvSpPr>
        <p:spPr>
          <a:xfrm>
            <a:off x="18720" y="4251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图片 24" descr="2.tif"/>
          <p:cNvPicPr/>
          <p:nvPr/>
        </p:nvPicPr>
        <p:blipFill>
          <a:blip r:embed="rId8"/>
          <a:stretch/>
        </p:blipFill>
        <p:spPr>
          <a:xfrm>
            <a:off x="7715160" y="1496880"/>
            <a:ext cx="1235160" cy="178596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2" descr="1.jpg"/>
          <p:cNvPicPr/>
          <p:nvPr/>
        </p:nvPicPr>
        <p:blipFill>
          <a:blip r:embed="rId9"/>
          <a:stretch/>
        </p:blipFill>
        <p:spPr>
          <a:xfrm>
            <a:off x="285840" y="3813120"/>
            <a:ext cx="1305000" cy="1711440"/>
          </a:xfrm>
          <a:prstGeom prst="rect">
            <a:avLst/>
          </a:prstGeom>
          <a:ln w="0">
            <a:noFill/>
          </a:ln>
        </p:spPr>
      </p:pic>
      <p:sp>
        <p:nvSpPr>
          <p:cNvPr id="1062" name="八边形 7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3" name=""/>
          <p:cNvGraphicFramePr/>
          <p:nvPr/>
        </p:nvGraphicFramePr>
        <p:xfrm>
          <a:off x="949320" y="1365120"/>
          <a:ext cx="3983040" cy="1206360"/>
        </p:xfrm>
        <a:graphic>
          <a:graphicData uri="http://schemas.openxmlformats.org/drawingml/2006/table">
            <a:tbl>
              <a:tblPr/>
              <a:tblGrid>
                <a:gridCol w="1327320"/>
                <a:gridCol w="1326960"/>
                <a:gridCol w="132876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一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二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三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4" name="文本框 6"/>
          <p:cNvSpPr/>
          <p:nvPr/>
        </p:nvSpPr>
        <p:spPr>
          <a:xfrm>
            <a:off x="880920" y="2381400"/>
            <a:ext cx="433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摘了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AutoShape 58"/>
          <p:cNvSpPr/>
          <p:nvPr/>
        </p:nvSpPr>
        <p:spPr>
          <a:xfrm>
            <a:off x="5594400" y="857160"/>
            <a:ext cx="1950840" cy="891000"/>
          </a:xfrm>
          <a:prstGeom prst="wedgeRoundRectCallout">
            <a:avLst>
              <a:gd name="adj1" fmla="val 57231"/>
              <a:gd name="adj2" fmla="val 237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哪种写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合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8"/>
          <p:cNvSpPr/>
          <p:nvPr/>
        </p:nvSpPr>
        <p:spPr>
          <a:xfrm>
            <a:off x="658800" y="1649520"/>
            <a:ext cx="3394080" cy="152856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"/>
          <p:cNvSpPr/>
          <p:nvPr/>
        </p:nvSpPr>
        <p:spPr>
          <a:xfrm>
            <a:off x="684360" y="3395520"/>
            <a:ext cx="1574640" cy="2214720"/>
          </a:xfrm>
          <a:custGeom>
            <a:avLst/>
            <a:gdLst>
              <a:gd name="textAreaLeft" fmla="*/ 45360 w 1574640"/>
              <a:gd name="textAreaRight" fmla="*/ 1529280 w 1574640"/>
              <a:gd name="textAreaTop" fmla="*/ 45360 h 2214720"/>
              <a:gd name="textAreaBottom" fmla="*/ 2169360 h 2214720"/>
            </a:gdLst>
            <a:ahLst/>
            <a:rect l="textAreaLeft" t="textAreaTop" r="textAreaRight" b="textAreaBottom"/>
            <a:pathLst>
              <a:path w="21600" h="30378">
                <a:moveTo>
                  <a:pt x="2137" y="0"/>
                </a:moveTo>
                <a:arcTo wR="2137" hR="2137" stAng="16200000" swAng="-5400000"/>
                <a:lnTo>
                  <a:pt x="0" y="28241"/>
                </a:lnTo>
                <a:arcTo wR="2137" hR="2137" stAng="10800000" swAng="-5400000"/>
                <a:lnTo>
                  <a:pt x="19463" y="30378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8"/>
          <p:cNvSpPr/>
          <p:nvPr/>
        </p:nvSpPr>
        <p:spPr>
          <a:xfrm>
            <a:off x="5867280" y="3378240"/>
            <a:ext cx="1928880" cy="2214360"/>
          </a:xfrm>
          <a:custGeom>
            <a:avLst/>
            <a:gdLst>
              <a:gd name="textAreaLeft" fmla="*/ 55800 w 1928880"/>
              <a:gd name="textAreaRight" fmla="*/ 1873080 w 1928880"/>
              <a:gd name="textAreaTop" fmla="*/ 55800 h 2214360"/>
              <a:gd name="textAreaBottom" fmla="*/ 2158560 h 2214360"/>
            </a:gdLst>
            <a:ahLst/>
            <a:rect l="textAreaLeft" t="textAreaTop" r="textAreaRight" b="textAreaBottom"/>
            <a:pathLst>
              <a:path w="21600" h="24796">
                <a:moveTo>
                  <a:pt x="2137" y="0"/>
                </a:moveTo>
                <a:arcTo wR="2137" hR="2137" stAng="16200000" swAng="-5400000"/>
                <a:lnTo>
                  <a:pt x="0" y="22659"/>
                </a:lnTo>
                <a:arcTo wR="2137" hR="2137" stAng="10800000" swAng="-5400000"/>
                <a:lnTo>
                  <a:pt x="19463" y="24796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0"/>
          <p:cNvSpPr/>
          <p:nvPr/>
        </p:nvSpPr>
        <p:spPr>
          <a:xfrm>
            <a:off x="560520" y="871560"/>
            <a:ext cx="2786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1"/>
          <p:cNvSpPr/>
          <p:nvPr/>
        </p:nvSpPr>
        <p:spPr>
          <a:xfrm>
            <a:off x="5662440" y="28018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32"/>
          <p:cNvSpPr/>
          <p:nvPr/>
        </p:nvSpPr>
        <p:spPr>
          <a:xfrm>
            <a:off x="1233360" y="163656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870120" y="199692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3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880920" y="2565360"/>
            <a:ext cx="1176480" cy="360"/>
            <a:chOff x="880920" y="2565360"/>
            <a:chExt cx="1176480" cy="360"/>
          </a:xfrm>
        </p:grpSpPr>
        <p:sp>
          <p:nvSpPr>
            <p:cNvPr id="1074" name="Line 34"/>
            <p:cNvSpPr/>
            <p:nvPr/>
          </p:nvSpPr>
          <p:spPr>
            <a:xfrm>
              <a:off x="880920" y="2565360"/>
              <a:ext cx="1176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880920" y="2565360"/>
              <a:ext cx="117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Text Box 35"/>
          <p:cNvSpPr/>
          <p:nvPr/>
        </p:nvSpPr>
        <p:spPr>
          <a:xfrm>
            <a:off x="1230480" y="25225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6"/>
          <p:cNvSpPr/>
          <p:nvPr/>
        </p:nvSpPr>
        <p:spPr>
          <a:xfrm>
            <a:off x="1590840" y="25210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37"/>
          <p:cNvSpPr/>
          <p:nvPr/>
        </p:nvSpPr>
        <p:spPr>
          <a:xfrm>
            <a:off x="1353960" y="2255760"/>
            <a:ext cx="374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43"/>
          <p:cNvSpPr/>
          <p:nvPr/>
        </p:nvSpPr>
        <p:spPr>
          <a:xfrm>
            <a:off x="2951280" y="163656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44"/>
          <p:cNvSpPr/>
          <p:nvPr/>
        </p:nvSpPr>
        <p:spPr>
          <a:xfrm>
            <a:off x="2590920" y="199872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2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612880" y="2557440"/>
            <a:ext cx="1176480" cy="360"/>
            <a:chOff x="2612880" y="2557440"/>
            <a:chExt cx="1176480" cy="360"/>
          </a:xfrm>
        </p:grpSpPr>
        <p:sp>
          <p:nvSpPr>
            <p:cNvPr id="1082" name="Line 45"/>
            <p:cNvSpPr/>
            <p:nvPr/>
          </p:nvSpPr>
          <p:spPr>
            <a:xfrm>
              <a:off x="2612880" y="2557440"/>
              <a:ext cx="1176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2612880" y="2557440"/>
              <a:ext cx="117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Text Box 46"/>
          <p:cNvSpPr/>
          <p:nvPr/>
        </p:nvSpPr>
        <p:spPr>
          <a:xfrm>
            <a:off x="2948040" y="25272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47"/>
          <p:cNvSpPr/>
          <p:nvPr/>
        </p:nvSpPr>
        <p:spPr>
          <a:xfrm>
            <a:off x="3327480" y="25272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49"/>
          <p:cNvSpPr/>
          <p:nvPr/>
        </p:nvSpPr>
        <p:spPr>
          <a:xfrm>
            <a:off x="1222200" y="2654280"/>
            <a:ext cx="756000" cy="360360"/>
          </a:xfrm>
          <a:prstGeom prst="rect">
            <a:avLst/>
          </a:prstGeom>
          <a:noFill/>
          <a:ln w="1908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50"/>
          <p:cNvSpPr/>
          <p:nvPr/>
        </p:nvSpPr>
        <p:spPr>
          <a:xfrm>
            <a:off x="2960640" y="1766880"/>
            <a:ext cx="755640" cy="360360"/>
          </a:xfrm>
          <a:prstGeom prst="rect">
            <a:avLst/>
          </a:prstGeom>
          <a:noFill/>
          <a:ln w="1908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72"/>
          <p:cNvSpPr/>
          <p:nvPr/>
        </p:nvSpPr>
        <p:spPr>
          <a:xfrm>
            <a:off x="1235160" y="338472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73"/>
          <p:cNvSpPr/>
          <p:nvPr/>
        </p:nvSpPr>
        <p:spPr>
          <a:xfrm>
            <a:off x="865080" y="375444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3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882720" y="4314960"/>
            <a:ext cx="1168200" cy="360"/>
            <a:chOff x="882720" y="4314960"/>
            <a:chExt cx="1168200" cy="360"/>
          </a:xfrm>
        </p:grpSpPr>
        <p:sp>
          <p:nvSpPr>
            <p:cNvPr id="1091" name="Line 74"/>
            <p:cNvSpPr/>
            <p:nvPr/>
          </p:nvSpPr>
          <p:spPr>
            <a:xfrm>
              <a:off x="882720" y="4314960"/>
              <a:ext cx="116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>
              <a:off x="882720" y="4314960"/>
              <a:ext cx="1168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Text Box 75"/>
          <p:cNvSpPr/>
          <p:nvPr/>
        </p:nvSpPr>
        <p:spPr>
          <a:xfrm>
            <a:off x="122544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76"/>
          <p:cNvSpPr/>
          <p:nvPr/>
        </p:nvSpPr>
        <p:spPr>
          <a:xfrm>
            <a:off x="159228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77"/>
          <p:cNvSpPr/>
          <p:nvPr/>
        </p:nvSpPr>
        <p:spPr>
          <a:xfrm>
            <a:off x="1344600" y="4025880"/>
            <a:ext cx="374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79"/>
          <p:cNvSpPr/>
          <p:nvPr/>
        </p:nvSpPr>
        <p:spPr>
          <a:xfrm>
            <a:off x="863640" y="457848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2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843120" y="5121360"/>
            <a:ext cx="1187280" cy="360"/>
            <a:chOff x="843120" y="5121360"/>
            <a:chExt cx="1187280" cy="360"/>
          </a:xfrm>
        </p:grpSpPr>
        <p:sp>
          <p:nvSpPr>
            <p:cNvPr id="1098" name="Line 80"/>
            <p:cNvSpPr/>
            <p:nvPr/>
          </p:nvSpPr>
          <p:spPr>
            <a:xfrm>
              <a:off x="843120" y="5121360"/>
              <a:ext cx="11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843120" y="5121360"/>
              <a:ext cx="11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Text Box 81"/>
          <p:cNvSpPr/>
          <p:nvPr/>
        </p:nvSpPr>
        <p:spPr>
          <a:xfrm>
            <a:off x="1227240" y="50292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82"/>
          <p:cNvSpPr/>
          <p:nvPr/>
        </p:nvSpPr>
        <p:spPr>
          <a:xfrm>
            <a:off x="1592280" y="50356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83"/>
          <p:cNvSpPr/>
          <p:nvPr/>
        </p:nvSpPr>
        <p:spPr>
          <a:xfrm>
            <a:off x="2987640" y="871560"/>
            <a:ext cx="93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8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75"/>
          <p:cNvSpPr/>
          <p:nvPr/>
        </p:nvSpPr>
        <p:spPr>
          <a:xfrm>
            <a:off x="119232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6"/>
          <p:cNvSpPr/>
          <p:nvPr/>
        </p:nvSpPr>
        <p:spPr>
          <a:xfrm>
            <a:off x="156060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31"/>
          <p:cNvSpPr/>
          <p:nvPr/>
        </p:nvSpPr>
        <p:spPr>
          <a:xfrm>
            <a:off x="6518160" y="4599000"/>
            <a:ext cx="536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2"/>
          <p:cNvSpPr/>
          <p:nvPr/>
        </p:nvSpPr>
        <p:spPr>
          <a:xfrm>
            <a:off x="6440400" y="3497400"/>
            <a:ext cx="1390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2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33"/>
          <p:cNvSpPr/>
          <p:nvPr/>
        </p:nvSpPr>
        <p:spPr>
          <a:xfrm>
            <a:off x="6443640" y="3924360"/>
            <a:ext cx="151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3  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012000" y="4346640"/>
            <a:ext cx="1660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2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6046920" y="4937040"/>
            <a:ext cx="1280880" cy="360"/>
            <a:chOff x="6046920" y="4937040"/>
            <a:chExt cx="1280880" cy="360"/>
          </a:xfrm>
        </p:grpSpPr>
        <p:sp>
          <p:nvSpPr>
            <p:cNvPr id="1110" name="Line 35"/>
            <p:cNvSpPr/>
            <p:nvPr/>
          </p:nvSpPr>
          <p:spPr>
            <a:xfrm>
              <a:off x="6046920" y="4937040"/>
              <a:ext cx="1280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 txBox="1"/>
            <p:nvPr/>
          </p:nvSpPr>
          <p:spPr>
            <a:xfrm>
              <a:off x="6046920" y="4937040"/>
              <a:ext cx="12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38"/>
          <p:cNvSpPr/>
          <p:nvPr/>
        </p:nvSpPr>
        <p:spPr>
          <a:xfrm>
            <a:off x="6435720" y="4897440"/>
            <a:ext cx="719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8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9"/>
          <p:cNvSpPr/>
          <p:nvPr/>
        </p:nvSpPr>
        <p:spPr>
          <a:xfrm>
            <a:off x="6813720" y="4894200"/>
            <a:ext cx="799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直接连接符 87"/>
          <p:cNvSpPr/>
          <p:nvPr/>
        </p:nvSpPr>
        <p:spPr>
          <a:xfrm>
            <a:off x="7120080" y="3830760"/>
            <a:ext cx="217440" cy="414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直接连接符 89"/>
          <p:cNvSpPr/>
          <p:nvPr/>
        </p:nvSpPr>
        <p:spPr>
          <a:xfrm flipV="1">
            <a:off x="7103520" y="4249800"/>
            <a:ext cx="230040" cy="4046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7326360" y="4025880"/>
            <a:ext cx="500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华文楷体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59"/>
          <p:cNvSpPr/>
          <p:nvPr/>
        </p:nvSpPr>
        <p:spPr>
          <a:xfrm>
            <a:off x="5288040" y="858960"/>
            <a:ext cx="2259000" cy="891000"/>
          </a:xfrm>
          <a:prstGeom prst="wedgeRoundRectCallout">
            <a:avLst>
              <a:gd name="adj1" fmla="val 56879"/>
              <a:gd name="adj2" fmla="val 251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不能把它们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起写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62"/>
          <p:cNvSpPr/>
          <p:nvPr/>
        </p:nvSpPr>
        <p:spPr>
          <a:xfrm>
            <a:off x="2698920" y="3867120"/>
            <a:ext cx="1223640" cy="891000"/>
          </a:xfrm>
          <a:prstGeom prst="wedgeRoundRectCallout">
            <a:avLst>
              <a:gd name="adj1" fmla="val 65819"/>
              <a:gd name="adj2" fmla="val 289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图片 54" descr="2.tif"/>
          <p:cNvPicPr/>
          <p:nvPr/>
        </p:nvPicPr>
        <p:blipFill>
          <a:blip r:embed="rId1"/>
          <a:stretch/>
        </p:blipFill>
        <p:spPr>
          <a:xfrm>
            <a:off x="7715160" y="1085760"/>
            <a:ext cx="1235160" cy="178596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22" descr="1.jpg"/>
          <p:cNvPicPr/>
          <p:nvPr/>
        </p:nvPicPr>
        <p:blipFill>
          <a:blip r:embed="rId2"/>
          <a:stretch/>
        </p:blipFill>
        <p:spPr>
          <a:xfrm>
            <a:off x="4286160" y="1943280"/>
            <a:ext cx="1305000" cy="17110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56" descr="3.tif"/>
          <p:cNvPicPr/>
          <p:nvPr/>
        </p:nvPicPr>
        <p:blipFill>
          <a:blip r:embed="rId3"/>
          <a:stretch/>
        </p:blipFill>
        <p:spPr>
          <a:xfrm>
            <a:off x="4214880" y="3943440"/>
            <a:ext cx="1198440" cy="12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"/>
                            </p:stCondLst>
                            <p:childTnLst>
                              <p:par>
                                <p:cTn id="1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"/>
                            </p:stCondLst>
                            <p:childTnLst>
                              <p:par>
                                <p:cTn id="1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"/>
                            </p:stCondLst>
                            <p:childTnLst>
                              <p:par>
                                <p:cTn id="18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4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5"/>
                            </p:stCondLst>
                            <p:childTnLst>
                              <p:par>
                                <p:cTn id="18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"/>
                            </p:stCondLst>
                            <p:childTnLst>
                              <p:par>
                                <p:cTn id="19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2"/>
                            </p:stCondLst>
                            <p:childTnLst>
                              <p:par>
                                <p:cTn id="20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"/>
                            </p:stCondLst>
                            <p:childTnLst>
                              <p:par>
                                <p:cTn id="2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"/>
                            </p:stCondLst>
                            <p:childTnLst>
                              <p:par>
                                <p:cTn id="24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35"/>
          <p:cNvSpPr/>
          <p:nvPr/>
        </p:nvSpPr>
        <p:spPr>
          <a:xfrm>
            <a:off x="4070520" y="3000240"/>
            <a:ext cx="642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"/>
          <p:cNvSpPr/>
          <p:nvPr/>
        </p:nvSpPr>
        <p:spPr>
          <a:xfrm>
            <a:off x="733320" y="784080"/>
            <a:ext cx="810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大南瓜，李大爷运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，王叔叔运走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。还剩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83"/>
          <p:cNvSpPr/>
          <p:nvPr/>
        </p:nvSpPr>
        <p:spPr>
          <a:xfrm>
            <a:off x="3340080" y="1871640"/>
            <a:ext cx="2222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83"/>
          <p:cNvSpPr/>
          <p:nvPr/>
        </p:nvSpPr>
        <p:spPr>
          <a:xfrm>
            <a:off x="1386000" y="1871640"/>
            <a:ext cx="3857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8"/>
          <p:cNvSpPr/>
          <p:nvPr/>
        </p:nvSpPr>
        <p:spPr>
          <a:xfrm>
            <a:off x="826920" y="2603520"/>
            <a:ext cx="316728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5"/>
          <p:cNvSpPr/>
          <p:nvPr/>
        </p:nvSpPr>
        <p:spPr>
          <a:xfrm>
            <a:off x="1403280" y="35100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36"/>
          <p:cNvSpPr/>
          <p:nvPr/>
        </p:nvSpPr>
        <p:spPr>
          <a:xfrm>
            <a:off x="1751040" y="35100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43"/>
          <p:cNvSpPr/>
          <p:nvPr/>
        </p:nvSpPr>
        <p:spPr>
          <a:xfrm>
            <a:off x="2973240" y="2682720"/>
            <a:ext cx="115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46"/>
          <p:cNvSpPr/>
          <p:nvPr/>
        </p:nvSpPr>
        <p:spPr>
          <a:xfrm>
            <a:off x="2973240" y="351324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47"/>
          <p:cNvSpPr/>
          <p:nvPr/>
        </p:nvSpPr>
        <p:spPr>
          <a:xfrm>
            <a:off x="3300480" y="350676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8"/>
          <p:cNvSpPr/>
          <p:nvPr/>
        </p:nvSpPr>
        <p:spPr>
          <a:xfrm>
            <a:off x="4788000" y="2602080"/>
            <a:ext cx="1819080" cy="2214360"/>
          </a:xfrm>
          <a:custGeom>
            <a:avLst/>
            <a:gdLst>
              <a:gd name="textAreaLeft" fmla="*/ 52560 w 1819080"/>
              <a:gd name="textAreaRight" fmla="*/ 1766520 w 1819080"/>
              <a:gd name="textAreaTop" fmla="*/ 52560 h 2214360"/>
              <a:gd name="textAreaBottom" fmla="*/ 2161800 h 2214360"/>
            </a:gdLst>
            <a:ahLst/>
            <a:rect l="textAreaLeft" t="textAreaTop" r="textAreaRight" b="textAreaBottom"/>
            <a:pathLst>
              <a:path w="21600" h="26293">
                <a:moveTo>
                  <a:pt x="2137" y="0"/>
                </a:moveTo>
                <a:arcTo wR="2137" hR="2137" stAng="16200000" swAng="-5400000"/>
                <a:lnTo>
                  <a:pt x="0" y="24156"/>
                </a:lnTo>
                <a:arcTo wR="2137" hR="2137" stAng="10800000" swAng="-5400000"/>
                <a:lnTo>
                  <a:pt x="19463" y="26293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2"/>
          <p:cNvSpPr/>
          <p:nvPr/>
        </p:nvSpPr>
        <p:spPr>
          <a:xfrm>
            <a:off x="5448240" y="2630520"/>
            <a:ext cx="115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3"/>
          <p:cNvSpPr/>
          <p:nvPr/>
        </p:nvSpPr>
        <p:spPr>
          <a:xfrm>
            <a:off x="5132520" y="2989440"/>
            <a:ext cx="16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4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157720" y="3495600"/>
            <a:ext cx="1025640" cy="360"/>
            <a:chOff x="5157720" y="3495600"/>
            <a:chExt cx="1025640" cy="360"/>
          </a:xfrm>
        </p:grpSpPr>
        <p:sp>
          <p:nvSpPr>
            <p:cNvPr id="1136" name="Line 74"/>
            <p:cNvSpPr/>
            <p:nvPr/>
          </p:nvSpPr>
          <p:spPr>
            <a:xfrm>
              <a:off x="5157720" y="3495600"/>
              <a:ext cx="10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5157720" y="3495600"/>
              <a:ext cx="102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75"/>
          <p:cNvSpPr/>
          <p:nvPr/>
        </p:nvSpPr>
        <p:spPr>
          <a:xfrm>
            <a:off x="5457960" y="341784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76"/>
          <p:cNvSpPr/>
          <p:nvPr/>
        </p:nvSpPr>
        <p:spPr>
          <a:xfrm>
            <a:off x="5791320" y="341784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79"/>
          <p:cNvSpPr/>
          <p:nvPr/>
        </p:nvSpPr>
        <p:spPr>
          <a:xfrm>
            <a:off x="4911840" y="3743280"/>
            <a:ext cx="16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2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5156280" y="4267080"/>
            <a:ext cx="1025280" cy="360"/>
            <a:chOff x="5156280" y="4267080"/>
            <a:chExt cx="1025280" cy="360"/>
          </a:xfrm>
        </p:grpSpPr>
        <p:sp>
          <p:nvSpPr>
            <p:cNvPr id="1142" name="Line 80"/>
            <p:cNvSpPr/>
            <p:nvPr/>
          </p:nvSpPr>
          <p:spPr>
            <a:xfrm>
              <a:off x="5156280" y="4267080"/>
              <a:ext cx="1025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5156280" y="4267080"/>
              <a:ext cx="102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Text Box 81"/>
          <p:cNvSpPr/>
          <p:nvPr/>
        </p:nvSpPr>
        <p:spPr>
          <a:xfrm>
            <a:off x="5450040" y="42228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82"/>
          <p:cNvSpPr/>
          <p:nvPr/>
        </p:nvSpPr>
        <p:spPr>
          <a:xfrm>
            <a:off x="5791320" y="42228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167"/>
          <p:cNvSpPr/>
          <p:nvPr/>
        </p:nvSpPr>
        <p:spPr>
          <a:xfrm>
            <a:off x="5788440" y="182880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答：还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66"/>
          <p:cNvGrpSpPr/>
          <p:nvPr/>
        </p:nvGrpSpPr>
        <p:grpSpPr>
          <a:xfrm>
            <a:off x="1003320" y="2625840"/>
            <a:ext cx="3160800" cy="1328760"/>
            <a:chOff x="1003320" y="2625840"/>
            <a:chExt cx="3160800" cy="1328760"/>
          </a:xfrm>
        </p:grpSpPr>
        <p:grpSp>
          <p:nvGrpSpPr>
            <p:cNvPr id="1148" name="Group 64"/>
            <p:cNvGrpSpPr/>
            <p:nvPr/>
          </p:nvGrpSpPr>
          <p:grpSpPr>
            <a:xfrm>
              <a:off x="1003320" y="2625840"/>
              <a:ext cx="1662120" cy="1328760"/>
              <a:chOff x="1003320" y="2625840"/>
              <a:chExt cx="1662120" cy="1328760"/>
            </a:xfrm>
          </p:grpSpPr>
          <p:sp>
            <p:nvSpPr>
              <p:cNvPr id="1149" name="Text Box 32"/>
              <p:cNvSpPr/>
              <p:nvPr/>
            </p:nvSpPr>
            <p:spPr>
              <a:xfrm>
                <a:off x="1405080" y="2625840"/>
                <a:ext cx="11509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33"/>
              <p:cNvSpPr/>
              <p:nvPr/>
            </p:nvSpPr>
            <p:spPr>
              <a:xfrm>
                <a:off x="1003320" y="301644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1108080" y="3519720"/>
                <a:ext cx="1095480" cy="360"/>
                <a:chOff x="1108080" y="3519720"/>
                <a:chExt cx="1095480" cy="360"/>
              </a:xfrm>
            </p:grpSpPr>
            <p:sp>
              <p:nvSpPr>
                <p:cNvPr id="1152" name="Line 34"/>
                <p:cNvSpPr/>
                <p:nvPr/>
              </p:nvSpPr>
              <p:spPr>
                <a:xfrm>
                  <a:off x="1108080" y="3519720"/>
                  <a:ext cx="1095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 txBox="1"/>
                <p:nvPr/>
              </p:nvSpPr>
              <p:spPr>
                <a:xfrm>
                  <a:off x="1108080" y="3519720"/>
                  <a:ext cx="109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4" name="Rectangle 17"/>
              <p:cNvSpPr/>
              <p:nvPr/>
            </p:nvSpPr>
            <p:spPr>
              <a:xfrm>
                <a:off x="176220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7"/>
              <p:cNvSpPr/>
              <p:nvPr/>
            </p:nvSpPr>
            <p:spPr>
              <a:xfrm>
                <a:off x="142416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65"/>
            <p:cNvGrpSpPr/>
            <p:nvPr/>
          </p:nvGrpSpPr>
          <p:grpSpPr>
            <a:xfrm>
              <a:off x="2502000" y="2813400"/>
              <a:ext cx="1662120" cy="1141200"/>
              <a:chOff x="2502000" y="2813400"/>
              <a:chExt cx="1662120" cy="1141200"/>
            </a:xfrm>
          </p:grpSpPr>
          <p:sp>
            <p:nvSpPr>
              <p:cNvPr id="1157" name="Text Box 44"/>
              <p:cNvSpPr/>
              <p:nvPr/>
            </p:nvSpPr>
            <p:spPr>
              <a:xfrm>
                <a:off x="2502000" y="301968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"/>
              <p:cNvGrpSpPr/>
              <p:nvPr/>
            </p:nvGrpSpPr>
            <p:grpSpPr>
              <a:xfrm>
                <a:off x="2603520" y="3519720"/>
                <a:ext cx="1093680" cy="360"/>
                <a:chOff x="2603520" y="3519720"/>
                <a:chExt cx="1093680" cy="360"/>
              </a:xfrm>
            </p:grpSpPr>
            <p:sp>
              <p:nvSpPr>
                <p:cNvPr id="1159" name="Line 45"/>
                <p:cNvSpPr/>
                <p:nvPr/>
              </p:nvSpPr>
              <p:spPr>
                <a:xfrm>
                  <a:off x="2603520" y="3519720"/>
                  <a:ext cx="1093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 txBox="1"/>
                <p:nvPr/>
              </p:nvSpPr>
              <p:spPr>
                <a:xfrm>
                  <a:off x="2603520" y="3519720"/>
                  <a:ext cx="1093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1" name="Rectangle 17"/>
              <p:cNvSpPr/>
              <p:nvPr/>
            </p:nvSpPr>
            <p:spPr>
              <a:xfrm>
                <a:off x="3006720" y="28148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7"/>
              <p:cNvSpPr/>
              <p:nvPr/>
            </p:nvSpPr>
            <p:spPr>
              <a:xfrm>
                <a:off x="334476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7"/>
              <p:cNvSpPr/>
              <p:nvPr/>
            </p:nvSpPr>
            <p:spPr>
              <a:xfrm>
                <a:off x="300672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7"/>
              <p:cNvSpPr/>
              <p:nvPr/>
            </p:nvSpPr>
            <p:spPr>
              <a:xfrm>
                <a:off x="3346560" y="281340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5" name="椭圆 384"/>
          <p:cNvSpPr/>
          <p:nvPr/>
        </p:nvSpPr>
        <p:spPr>
          <a:xfrm>
            <a:off x="3139920" y="26906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组合 47"/>
          <p:cNvGrpSpPr/>
          <p:nvPr/>
        </p:nvGrpSpPr>
        <p:grpSpPr>
          <a:xfrm>
            <a:off x="285840" y="4299120"/>
            <a:ext cx="4468680" cy="1591920"/>
            <a:chOff x="285840" y="4299120"/>
            <a:chExt cx="4468680" cy="1591920"/>
          </a:xfrm>
        </p:grpSpPr>
        <p:sp>
          <p:nvSpPr>
            <p:cNvPr id="1167" name="AutoShape 47"/>
            <p:cNvSpPr/>
            <p:nvPr/>
          </p:nvSpPr>
          <p:spPr>
            <a:xfrm>
              <a:off x="1908360" y="4744800"/>
              <a:ext cx="2846160" cy="891000"/>
            </a:xfrm>
            <a:prstGeom prst="wedgeRoundRectCallout">
              <a:avLst>
                <a:gd name="adj1" fmla="val -60027"/>
                <a:gd name="adj2" fmla="val 110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能口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不写竖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8" name="图片 22" descr="1.jpg"/>
            <p:cNvPicPr/>
            <p:nvPr/>
          </p:nvPicPr>
          <p:blipFill>
            <a:blip r:embed="rId1"/>
            <a:stretch/>
          </p:blipFill>
          <p:spPr>
            <a:xfrm>
              <a:off x="285840" y="4299120"/>
              <a:ext cx="1214280" cy="159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9" name="组合 49"/>
          <p:cNvGrpSpPr/>
          <p:nvPr/>
        </p:nvGrpSpPr>
        <p:grpSpPr>
          <a:xfrm>
            <a:off x="6877080" y="2440080"/>
            <a:ext cx="2052720" cy="3336840"/>
            <a:chOff x="6877080" y="2440080"/>
            <a:chExt cx="2052720" cy="3336840"/>
          </a:xfrm>
        </p:grpSpPr>
        <p:sp>
          <p:nvSpPr>
            <p:cNvPr id="1170" name="AutoShape 48"/>
            <p:cNvSpPr/>
            <p:nvPr/>
          </p:nvSpPr>
          <p:spPr>
            <a:xfrm>
              <a:off x="6877080" y="2440080"/>
              <a:ext cx="1703520" cy="1681200"/>
            </a:xfrm>
            <a:prstGeom prst="wedgeRoundRectCallout">
              <a:avLst>
                <a:gd name="adj1" fmla="val -1916"/>
                <a:gd name="adj2" fmla="val 60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还可以先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共运走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个。怎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列式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1" name="图片 48" descr="2.tif"/>
            <p:cNvPicPr/>
            <p:nvPr/>
          </p:nvPicPr>
          <p:blipFill>
            <a:blip r:embed="rId2"/>
            <a:stretch/>
          </p:blipFill>
          <p:spPr>
            <a:xfrm>
              <a:off x="7858080" y="4227480"/>
              <a:ext cx="1071720" cy="15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2" name="八边形 7"/>
          <p:cNvSpPr/>
          <p:nvPr/>
        </p:nvSpPr>
        <p:spPr>
          <a:xfrm>
            <a:off x="600120" y="779400"/>
            <a:ext cx="51588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"/>
                            </p:stCondLst>
                            <p:childTnLst>
                              <p:par>
                                <p:cTn id="3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"/>
                            </p:stCondLst>
                            <p:childTnLst>
                              <p:par>
                                <p:cTn id="3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"/>
                            </p:stCondLst>
                            <p:childTnLst>
                              <p:par>
                                <p:cTn id="3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"/>
                            </p:stCondLst>
                            <p:childTnLst>
                              <p:par>
                                <p:cTn id="3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"/>
                            </p:stCondLst>
                            <p:childTnLst>
                              <p:par>
                                <p:cTn id="3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Box 44"/>
          <p:cNvSpPr/>
          <p:nvPr/>
        </p:nvSpPr>
        <p:spPr>
          <a:xfrm>
            <a:off x="2689200" y="2682720"/>
            <a:ext cx="48564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算一共运走的南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45"/>
          <p:cNvSpPr/>
          <p:nvPr/>
        </p:nvSpPr>
        <p:spPr>
          <a:xfrm>
            <a:off x="1805400" y="3141720"/>
            <a:ext cx="164376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算还剩的南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43"/>
          <p:cNvSpPr/>
          <p:nvPr/>
        </p:nvSpPr>
        <p:spPr>
          <a:xfrm>
            <a:off x="4446720" y="2660760"/>
            <a:ext cx="170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46"/>
          <p:cNvSpPr/>
          <p:nvPr/>
        </p:nvSpPr>
        <p:spPr>
          <a:xfrm>
            <a:off x="4437000" y="3105000"/>
            <a:ext cx="193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47"/>
          <p:cNvSpPr/>
          <p:nvPr/>
        </p:nvSpPr>
        <p:spPr>
          <a:xfrm>
            <a:off x="5936760" y="2660760"/>
            <a:ext cx="1140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48"/>
          <p:cNvSpPr/>
          <p:nvPr/>
        </p:nvSpPr>
        <p:spPr>
          <a:xfrm>
            <a:off x="5909760" y="3102120"/>
            <a:ext cx="1140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10"/>
          <p:cNvSpPr/>
          <p:nvPr/>
        </p:nvSpPr>
        <p:spPr>
          <a:xfrm>
            <a:off x="733320" y="1628640"/>
            <a:ext cx="810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大南瓜，李大爷运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，王叔叔运走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。还剩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73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2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2"/>
          <p:cNvSpPr/>
          <p:nvPr/>
        </p:nvSpPr>
        <p:spPr>
          <a:xfrm>
            <a:off x="420840" y="93348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竖式计算连减算式时，同连加一样，可以列两个竖式计算。为了简便，也可以把两个竖式合并成一个竖式进行计算，哪一步能口算就口算，不用列竖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7=          8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6=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9=          6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3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2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8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73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7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99" name="椭圆 18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7" name="文本框 8"/>
          <p:cNvSpPr/>
          <p:nvPr/>
        </p:nvSpPr>
        <p:spPr>
          <a:xfrm>
            <a:off x="2440080" y="229248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9"/>
          <p:cNvSpPr/>
          <p:nvPr/>
        </p:nvSpPr>
        <p:spPr>
          <a:xfrm>
            <a:off x="6184800" y="230508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10"/>
          <p:cNvSpPr/>
          <p:nvPr/>
        </p:nvSpPr>
        <p:spPr>
          <a:xfrm>
            <a:off x="2473200" y="316548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11"/>
          <p:cNvSpPr/>
          <p:nvPr/>
        </p:nvSpPr>
        <p:spPr>
          <a:xfrm>
            <a:off x="6213600" y="3165480"/>
            <a:ext cx="826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12"/>
          <p:cNvSpPr/>
          <p:nvPr/>
        </p:nvSpPr>
        <p:spPr>
          <a:xfrm>
            <a:off x="2465280" y="402120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13"/>
          <p:cNvSpPr/>
          <p:nvPr/>
        </p:nvSpPr>
        <p:spPr>
          <a:xfrm>
            <a:off x="6140520" y="400356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456840" y="1600200"/>
            <a:ext cx="857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我会填“＞”“＜”或“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  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   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    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      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    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73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5586"/>
          <p:cNvSpPr/>
          <p:nvPr/>
        </p:nvSpPr>
        <p:spPr>
          <a:xfrm>
            <a:off x="2263680" y="2212920"/>
            <a:ext cx="292320" cy="2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5586"/>
          <p:cNvSpPr/>
          <p:nvPr/>
        </p:nvSpPr>
        <p:spPr>
          <a:xfrm>
            <a:off x="6672240" y="2212920"/>
            <a:ext cx="291960" cy="2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5586"/>
          <p:cNvSpPr/>
          <p:nvPr/>
        </p:nvSpPr>
        <p:spPr>
          <a:xfrm>
            <a:off x="2316240" y="2755800"/>
            <a:ext cx="291960" cy="31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5586"/>
          <p:cNvSpPr/>
          <p:nvPr/>
        </p:nvSpPr>
        <p:spPr>
          <a:xfrm>
            <a:off x="6672240" y="2705040"/>
            <a:ext cx="291960" cy="31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8"/>
          <p:cNvSpPr/>
          <p:nvPr/>
        </p:nvSpPr>
        <p:spPr>
          <a:xfrm>
            <a:off x="2212920" y="2151000"/>
            <a:ext cx="374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9"/>
          <p:cNvSpPr/>
          <p:nvPr/>
        </p:nvSpPr>
        <p:spPr>
          <a:xfrm>
            <a:off x="6659640" y="2114640"/>
            <a:ext cx="2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0"/>
          <p:cNvSpPr/>
          <p:nvPr/>
        </p:nvSpPr>
        <p:spPr>
          <a:xfrm>
            <a:off x="2239920" y="267012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1"/>
          <p:cNvSpPr/>
          <p:nvPr/>
        </p:nvSpPr>
        <p:spPr>
          <a:xfrm>
            <a:off x="6578640" y="262260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0:28:36Z</dcterms:modified>
  <cp:revision>5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